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288588" cy="8172450"/>
  <p:notesSz cx="97377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73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1812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5516280" y="-360"/>
            <a:ext cx="421956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3249720" y="512280"/>
            <a:ext cx="3238560" cy="25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72720" y="3255840"/>
            <a:ext cx="7791480" cy="308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421812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5516280" y="6513120"/>
            <a:ext cx="421956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F6E71ED-B872-4970-8E67-120FB32D328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92595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4387680"/>
            <a:ext cx="92595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92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191196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75560" y="191196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438768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38768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75560" y="438768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1911960"/>
            <a:ext cx="92595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92595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325800"/>
            <a:ext cx="9259560" cy="63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92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4387680"/>
            <a:ext cx="92595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1911960"/>
            <a:ext cx="92595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392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326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6440" indent="-261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262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1160" indent="-2602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1160" indent="-2602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1160" indent="-2602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38360"/>
            <a:ext cx="10287000" cy="76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CONSELHO NACIONAL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RECURSOS HÍDR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GRUPO DE TRABALHO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SEGURANÇA DE BARRA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OGÉRIO  MENESC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31 de janeiro de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81080" y="838080"/>
            <a:ext cx="6688080" cy="733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701280"/>
            <a:ext cx="1028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300" spc="-1" strike="noStrike">
                <a:solidFill>
                  <a:srgbClr val="00ffff"/>
                </a:solidFill>
                <a:latin typeface="Times New Roman"/>
              </a:rPr>
              <a:t>Substitutiv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PROJETO DE LEI N</a:t>
            </a:r>
            <a:r>
              <a:rPr b="1" lang="pt-BR" sz="2300" spc="-1" strike="noStrike" u="sng">
                <a:solidFill>
                  <a:srgbClr val="ffff00"/>
                </a:solidFill>
                <a:uFillTx/>
                <a:latin typeface="Times New Roman"/>
              </a:rPr>
              <a:t>o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 1.181, DE 2003</a:t>
            </a:r>
            <a:br>
              <a:rPr sz="2300"/>
            </a:b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Estabelece a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política nacional de  segurança de barragens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destinadas à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acumulaçã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de água, ao aproveitamento de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potenciais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hidráulicos, à disposição final ou temporária de estéril e de rejeitos de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mineraçã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e à acumulação de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resíduos industriais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líquidos.</a:t>
            </a:r>
            <a:br>
              <a:rPr sz="2300"/>
            </a:br>
            <a:r>
              <a:rPr b="1" lang="pt-BR" sz="2300" spc="-1" strike="noStrike">
                <a:solidFill>
                  <a:srgbClr val="00ffff"/>
                </a:solidFill>
                <a:latin typeface="Times New Roman"/>
              </a:rPr>
              <a:t>Autor: 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Deputado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LEONARDO MONTEIR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2300"/>
            </a:br>
            <a:r>
              <a:rPr b="1" lang="pt-BR" sz="2300" spc="-1" strike="noStrike">
                <a:solidFill>
                  <a:srgbClr val="00ffff"/>
                </a:solidFill>
                <a:latin typeface="Times New Roman"/>
              </a:rPr>
              <a:t>Relator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: Deputado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FERNANDO FERR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790360"/>
            <a:ext cx="88930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2040" indent="0">
              <a:spcBef>
                <a:spcPts val="6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bjetiv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brangênci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finiçõe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undamento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Sistema de Classificação por Categoria de Risc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Plano de Seguranç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SNISB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Educação e Comunicação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NSB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ribuições do Proprietári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ribuições do Órgão Fiscalizador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ponsável Técnic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sposições finais e transitó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72040" y="3365640"/>
            <a:ext cx="4314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- SANÇÕES E PENAL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- FONTES DE RECURSOS FINANCEI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0287000" cy="77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ntos a Desta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apensação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do PL 1181/2003 e votação em regime de urgência (análise conjunta com PL 4038/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róximas etap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Fato: rupturas cada vez mais graves e numerosas a cada ano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envelhecimento sem manuteção – Caso Caldas No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Ações d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/ANA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(Cadastro e priorização pela Categoria de Ris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Livro e Manual de Segurança de Barragens do MI (www.mi.gov.b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Banco de dados georeferenciados 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A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Edital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T-Hidro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para pesquisa sobre Segurança de Barragens (R$ 1 milhão e bolsas de pesqui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Grupo de trabalho Interministerial (MMA, MME, MT e M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Recursos do OGU 2005 para Recuperação (~ 100 milhõ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O que pressiona os Estados/Municípios/Ministérios a responder aos ofícios do 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síveis Fontes de Recursos Financeiros (emerenciais/continuados) (priorização do OGU para recuperação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arração da liberação de recursos à entrega do Cadastro/Inspe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gências Legais (PL 1181/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25640"/>
            <a:ext cx="102870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Obje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articip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Histór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rincipais dificuldades encontrad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Result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Novas atividades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465280"/>
            <a:ext cx="10287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nálise do PL 1181/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nalisar a situação de segurança de barragens, suas pertinências e responsabilidad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PARTICIP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65280"/>
            <a:ext cx="1028700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NA, MI, DNOCS, DUKE, DNPM, SRH-BA, ANEEL, CONFEA, CBDB, CHESF, DNIT, Min. Defesa, MME, SRH/MMA, UNESP, Un. Feira de Santana-BA, Vale do rio Doce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Ver lista completa com Raquel Scal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65280"/>
            <a:ext cx="10287000" cy="28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presentações (Rogério Menescal, PL 1181/2003, DNPM, ANEEL, PL 4038/2004, SEDEC/M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6 Reuniões (Abertura - 3/ago/04; “Fechamento” – 31/01/05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DIFICULDADES ENCONTR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65280"/>
            <a:ext cx="1028700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Mudança dos membro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alta da apresentação do IBA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alta de apoio juríd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alta de normas mínimas para condução de trabalhos do G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65280"/>
            <a:ext cx="1028700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poio à Moção de Desapensação ao PL 1616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roposta de alteração do texto do PL 1181/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CTAP =&gt; CTIL =&gt; CNRH =&gt; Dep. Relator do PL 1181/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71320" y="846000"/>
            <a:ext cx="8893080" cy="59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8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3600" spc="-1" strike="noStrike">
                <a:solidFill>
                  <a:srgbClr val="00ffff"/>
                </a:solidFill>
                <a:latin typeface="Times New Roman"/>
              </a:rPr>
              <a:t>Diretrizes para uma proposta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3600" spc="-1" strike="noStrike">
                <a:solidFill>
                  <a:srgbClr val="00ffff"/>
                </a:solidFill>
                <a:latin typeface="Times New Roman"/>
              </a:rPr>
              <a:t>legislação nacional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Ser sucinta sem deixar de cobrir os aspectos essenc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er dispositivos para permitir uma ação preven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ocura da descentralização (Pacto federativo, autoregulação e autofiscaliza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Utilizar o arcabouço legal/institucional existente n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Não procurar resolver todos os problemas de uma só vez (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Plantar uma semente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e fincar uma vareta para a árvore nascer ereta. Os frutos só virão no médio e longo praz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0" y="3124080"/>
            <a:ext cx="30481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08520"/>
            <a:ext cx="2743200" cy="1272960"/>
          </a:xfrm>
          <a:prstGeom prst="downArrowCallout">
            <a:avLst>
              <a:gd name="adj1" fmla="val 53959"/>
              <a:gd name="adj2" fmla="val 53874"/>
              <a:gd name="adj3" fmla="val 13671"/>
              <a:gd name="adj4" fmla="val 7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86200"/>
            <a:ext cx="2170080" cy="1117440"/>
          </a:xfrm>
          <a:prstGeom prst="upArrowCallout">
            <a:avLst>
              <a:gd name="adj1" fmla="val 48555"/>
              <a:gd name="adj2" fmla="val 48550"/>
              <a:gd name="adj3" fmla="val 16667"/>
              <a:gd name="adj4" fmla="val 6666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762120"/>
            <a:ext cx="10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99"/>
                </a:solidFill>
                <a:latin typeface="Times New Roman"/>
              </a:rPr>
              <a:t>NATIONAL FRAMEWORK RELATED WITH DAM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447920"/>
            <a:ext cx="5257800" cy="2361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NA </a:t>
            </a:r>
            <a:r>
              <a:rPr b="1" lang="pt-BR" sz="1400" spc="-1" strike="noStrike">
                <a:solidFill>
                  <a:srgbClr val="ff3300"/>
                </a:solidFill>
                <a:latin typeface="Times New Roman"/>
              </a:rPr>
              <a:t>(RIOS FEDERAIS E BANCO DE DAD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B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NEEL (HIDRELÉTRIC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NPM (BARRAGENS DE REJEI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DEC/SE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NRH/S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/CONFEA (Habilitação Profiss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mitês de Ba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Agências Reguladoras Estaduais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(HE, Min., </a:t>
            </a: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RH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&amp; MA)</a:t>
            </a: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 (Rios e obras Estaduai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733920"/>
            <a:ext cx="2819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Instituições de Pesquisa e Suporte (CBDB, Univ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sidades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, CREA/CONFEA,  Consultores e Peritos, BUREC, LNEC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88620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REGULAMENT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TREIN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L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34340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RELATÓRIO DE SEGUR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INFORMAÇÕ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203800"/>
            <a:ext cx="5105520" cy="289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5203800"/>
          <a:ext cx="5105520" cy="296856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246320"/>
                <a:gridCol w="11160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OS E COMUN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D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NICIP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I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O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EVAS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R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TRON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H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MI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GE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E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it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V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IP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agu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Ver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 rot="10800000">
            <a:off x="-4680" y="1817640"/>
            <a:ext cx="667080" cy="19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REGULATORY ORGANIZ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-2880" y="5564160"/>
            <a:ext cx="667080" cy="19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OWNERS &amp; OP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124080"/>
            <a:ext cx="761760" cy="685800"/>
          </a:xfrm>
          <a:prstGeom prst="leftRightArrow">
            <a:avLst>
              <a:gd name="adj1" fmla="val 50000"/>
              <a:gd name="adj2" fmla="val 221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5105520"/>
            <a:ext cx="761760" cy="685800"/>
          </a:xfrm>
          <a:prstGeom prst="leftRightArrow">
            <a:avLst>
              <a:gd name="adj1" fmla="val 50000"/>
              <a:gd name="adj2" fmla="val 221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3:07:54Z</dcterms:created>
  <dc:creator>wb204912</dc:creator>
  <dc:description/>
  <dc:language>en-US</dc:language>
  <cp:lastModifiedBy>rogerio.menescal</cp:lastModifiedBy>
  <dcterms:modified xsi:type="dcterms:W3CDTF">2005-01-31T18:18:33Z</dcterms:modified>
  <cp:revision>1123</cp:revision>
  <dc:subject/>
  <dc:title>PowerPoint Presentation</dc:title>
</cp:coreProperties>
</file>